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6D5-D354-4F5D-8F8D-32013D7B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979-E84E-40F9-8D08-C0499CE1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F68-D9D8-4962-8074-DB1C6128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0B2-4D86-49EE-A15F-9848537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FEE-1A31-4DC6-A235-ECD45396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1A8-9A90-4C88-B232-2082C32F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EDB-E94B-4269-BFCC-DAB51E5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FD7-7DE3-4526-A306-92E1B74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AC3-AE4E-46E5-B63C-4CC29A1A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7EB-A214-4FB5-B688-BD7EF306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3AB-47A1-4469-8C6C-045E8A0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AEF-A555-4738-BACB-E0EEEAD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1F5-DEFB-4E26-BB45-B965944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A96-F7B9-4B58-A59D-F004360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E233-CB2C-4C06-8598-73A8989F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1:34Z</dcterms:modified>
  <cp:revision>102</cp:revision>
  <dc:subject/>
  <dc:title>Profile</dc:title>
</cp:coreProperties>
</file>